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0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C8EE-9A75-4793-B3DF-64DECAC9A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AB10-6A4E-45D6-8861-28B8993EB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95B8-0B51-4E7F-A429-BF3B41B50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897C-C12E-450D-8B69-58C8C7869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4B2D-6DD0-4F77-8FFD-43A6EFB50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494A-AC9C-4E05-9087-EA7AE2FEA2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9BC0-DBCF-49E5-9E42-321DDF4E49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0BF8-D746-47FA-8584-7B218FA5C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7DA1-F275-4E8E-B1E3-5E764346A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7F95-9C2E-4ACE-B467-7FF307793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F609-BA1E-48A1-9827-A0C5C1A2F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B14B-4539-4EA9-9FDF-7B26E36EE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7932-BBD2-4964-81A2-1479E12D2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7D11-DC26-47DC-9323-647C530F3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1CE5-1EF2-4A10-B576-B913BC960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A31C-C038-455C-9977-3B860466FA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7279-C5A1-4422-A1A6-621CC8317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F7EA-96BC-40E6-B586-67A9B301D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841F-82C9-4F14-AF95-5C9FECF55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FB77-6EAA-46AC-B3D3-200B09241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49BF-331A-4B6E-8727-624B4BE94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F732-C14D-41CA-B690-864789630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8C6F-1907-4C13-ACAC-71FD5A3E8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B5F7-8C5A-4080-8460-B71D48A7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371-FE52-494A-A0A9-5AD224E0359D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7274-D016-4728-B1DA-180B748389CB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oc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y are made in a variety of ways, but …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56AD-1F7D-4EF7-8654-E1AB0CAFA8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7AD0-6B9B-45A8-A64E-E468AA10AE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AB45-2ED6-4B44-B5EA-7BC40722E6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edimentary rocks are the only one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at may have plant or animal remains trapped in the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etamorphic and igneous rocks were too hot or too squashed to allow them to surv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79640" y="3357720"/>
            <a:ext cx="4298400" cy="3200040"/>
            <a:chOff x="1979640" y="3357720"/>
            <a:chExt cx="4298400" cy="32000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979640" y="3357720"/>
              <a:ext cx="429840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79640" y="3357720"/>
              <a:ext cx="4298400" cy="320004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B29F-84D5-4379-839B-01DC129D59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may enter cracks in rock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 areas where the temperature falls below the freezing point of water, the water will turn into ice when it is cold enoug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expands as it freez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ce now exerts pressure on the walls of the crack, pushing them further apart and widening the crack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ver time, the crack becomes wider and the rock may break apar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413400" y="981000"/>
            <a:ext cx="2170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C6ED-4A41-419C-BD3A-0DAF37B33F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hanges in temperature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anges in temperature cause the surface of the rock to expand and contract more than the interior of the rock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weakens the rock and causes cracks to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3276360" cy="129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4284720" y="4869000"/>
            <a:ext cx="32767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B4CC-3EAB-4BE4-9E76-7CAC56DBA6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lant roots and animal burrows can destabilise rock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chen that grows on rock surfaces gradually wears it awa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52764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C3D6-32B6-4335-89CD-7C8C79B4AA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weathering occurs when rocks are exposed to wa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nfall is naturally acidic due to the carbon dioxide dissolved in i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reactions taking place between the water and the rock cause the rock to break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771640" y="3500280"/>
            <a:ext cx="432756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AF08-0A99-46AC-A4BF-DD57C915F3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ree types of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07544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gneous: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65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tamorphic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7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dimentary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8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49400" y="3189240"/>
          <a:ext cx="6929280" cy="3659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189240"/>
                    <a:ext cx="69292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472E-756C-47CA-999B-B7B246D2A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1066680"/>
          <a:ext cx="8458200" cy="556128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gneous or metamorphic or sedimentary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How they were form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ppearan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sandstone, limestone, chalk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mall pieces of sediment were stuck together by salt and pressure from rocks ab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sually soft, can contain fossils, easily erod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basalt, grani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Liquid rock (magma or lava) cooled down and turned back into a sol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ontain crystals, very hard, never contain fossil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marble, sla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Other rocks were acted on by heat and pressure over a long 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ometimes have tiny crystals, no fossils, always hard and sometimes arranged in layer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09480" y="58672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34340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590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633B-F325-4A13-8BBE-790CC6C249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ck cycle describes the perpetual recycling of minerals by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athering and erosion processes on the surfac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ansport and deposition processes involving water, ice, waves or wi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ock creation and transformation involving crust and tectonic process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ndscape creation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1D13-12C8-4908-BC81-96515D875F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m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3E13-445C-48BA-8164-37CD12DE9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C11B-5A56-4B74-94E6-DD9B7BF850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a bit easier to understan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562E-0AAD-40DA-A608-3A12F384E8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are the 3 types of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type of rock are the following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Sandstone, limestone, granite, basalt, sla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type of rock would a mountain probably be made out of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are the two conditions needed for a metamorphic rock t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form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ich metamorphic rock is formed from limeston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y wouldn’t you find any fossils in igneous or metamorphic rock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You find a rock containing crystals.  What type of rock would it mos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is molten rock that is inside the Earth calle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is molten rock that is outside the Earth (i.e. erupted) called?</a:t>
            </a:r>
            <a:r>
              <a:rPr b="0" lang="en-US" sz="2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A000-F7AB-444F-815D-C08A8B46F0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ame one example of phys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Name one example of biolog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cid rain is an example of chemical weathering.  What poisonous gas (given off by car exhausts and power stations) causes acid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Granite is an igneous rock and contains large crystals.  Did it cool down slowly or quick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In the rock cycle what causes igneous rock to become sedimentary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In the rock cycle again what causes the sedimentary rock to become metamorphic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ravestones are usually made out of marble or granite instead of limestone or sandstone.  Wh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A piece of rock contains layers.  What type of rock would i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01A5-8B4F-41C5-B5A6-703907DFA9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81400" y="1585800"/>
            <a:ext cx="43812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A834-4A12-4065-B0B4-A41B89E765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174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178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181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E908-54EF-442F-98E0-4EC5B6F49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F204-B79E-40F4-8075-A56089A1D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igneous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they were formed they were a liqui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were very hot rock that originally came from the magma at the centre of the earth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escaped from the mantle they began to coo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 the surface (where the liquid rock is called lava) they cool quickly and like toffee do not have crystals in it but they are very har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magma pushed in between layers of other rocks, away from the surface, they cool slowl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contain crystals, very hard, never contain fossils (because there were no living things in the mantle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5F51-7133-4D6E-B0A1-5E245BA22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197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46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49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AB29-2D64-427E-BB3C-53CE3E2FD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05DC-781B-4080-BB14-D4435E0D6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metamorphic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were made from other rocks were acted on by heat and pressure over a long tim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times have tiny crystals, no fossils because any remaining animal and plant bits would have been cooked in the process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always hard and sometimes arranged in lay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DD80-DF5F-4464-BD57-E6F31B9FF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72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275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278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EDB0-F33E-4E21-9AC1-02E526D630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13:21Z</dcterms:created>
  <dc:creator>Lindy</dc:creator>
  <dc:description/>
  <dc:language>en-US</dc:language>
  <cp:lastModifiedBy>Lindy</cp:lastModifiedBy>
  <dcterms:modified xsi:type="dcterms:W3CDTF">2009-12-27T12:07:23Z</dcterms:modified>
  <cp:revision>8</cp:revision>
  <dc:subject/>
  <dc:title>Ro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